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079-46DF-4A8D-B643-86E38894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A10-C082-4C2F-80C9-647E82AC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679-8887-4630-BD17-B4D26390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DD8-0270-4B8A-9388-3566F1FE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B2E5-F2DD-4D20-A5BA-B5956C40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8D37-45D6-4C6E-8C0D-ACF84F7F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AADD-1FAA-49C8-8761-DBD8B03B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FD4B-90DA-4088-B479-A24EC5BA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7647-A705-4CD2-A392-C7A00EA6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8370-687A-4C6B-9C3F-321AC6DB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D750-8A7D-4493-97A8-AC086A22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22C-DDCF-42F7-BBEC-699234F7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5B8D-FCCF-4902-B6FC-D36228D0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94D5-C28C-4EFA-B66D-5F0F5EC1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AAEA-8871-4071-B0EF-8B7FF83F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7622-C70A-47CD-B7FF-05FA3B70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1CC9-E092-48D4-AC3D-3F5B9AA9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4A794-B541-45F7-A704-9D35EF18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1713C-4BD8-43F1-B0D1-C6865DA2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5FB58-AAA7-455B-81E2-7C50E255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FC5AA-40F4-484A-9777-706A0F9D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850BD-1560-4AB4-BDF3-4FA1F9F8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6EE-9517-49DF-92DA-C41D2FEE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F3945-2E66-42C0-B4FB-3046D57E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FEB15-DCCB-41BF-A165-D7624C18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AB4A5-7DCC-4323-B9D5-546AFA39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5B5D9-2EF0-4C85-A1AE-552790DF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7C2E2-CE5A-49A2-8172-3D1C437A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BBC88-7320-43EF-B214-D6ACB69E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16E54-59CA-4F80-9AB7-257F49CF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C32A9-8088-42C8-8E9F-3176FD82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D91E6-8F77-4648-8817-BFA7402F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D2C06-1BC5-4BDA-A7BB-B18E7449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5DA-A881-4914-B67E-1DF84DD5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3EFD0-C222-4C37-8573-8AE0FB5F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15680-4CEF-4008-8E42-5CCABD39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95C28-4042-4077-B1ED-82B79B7D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52C8B-143D-4ACA-9F64-672274BD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65A2C-6C06-424E-9385-BE44D4BD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0C164-51E4-45D3-AAC6-4C28A0BC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5CEC3-3E5B-4B06-AE47-9F1BDD49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306A0-E999-443C-BDEA-6DE63F2C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BB45E-8433-4F5B-886F-05A475BD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F6C68-EF35-4A70-B0BD-62D0B5D7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180C-41CA-4C2B-A20B-0F7ED646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6726D-1BA5-4729-9EB0-F2ABDB6C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AD1E9-DE21-4AE5-B3A7-7C6CFF80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E0C02-EB8E-45A2-9898-46AFA774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F0FA5-2311-4491-A1F2-0145C16B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C68FB-C796-4D23-B4D8-B3B7D5F4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7CB7C-BD30-4ADB-906B-CBFFBA35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7BA3D-D0A8-41F5-94B0-BD1C7C75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835F8-08EA-4A9B-97C0-E8B0D5C5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78A97-B6EA-4408-884E-56F6FFDC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EEBE1-CEE3-4F02-9951-0E7AA2F8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9B4-A45D-4D1B-884A-9789EC64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21189-B2D4-4A00-A5BC-70A52658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5062B-2229-4B7E-AB1A-AD5C3897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1B536-F902-4B34-B1E6-310F5A7A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C4427-5293-40FA-B781-46733EB0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19B9E-5551-4267-B101-198D51C4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9DFE0-ED6F-4D45-A6DB-CD6C8A12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B032C-97C2-4199-8DBC-199D208F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09300-3AA0-492B-8A56-0F4A293E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A81A2-1188-4587-A5DD-A7ADB1BA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50760-6C59-47F8-933A-6DADC76A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3386-B5D6-442A-B8C4-45CAFB62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D3BCA-E664-402E-8A6B-64A9E8B6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7AC94-466D-4722-BC26-B03B8DDF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C242E-6AD1-44CC-AE77-EAD4D5F7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51DFA-7625-45CD-A04A-A54B646E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20293-AF75-40EF-B3AF-9CA45CB2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9383E-A02F-4750-B44C-B4555EEB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8B5A2-84C6-4526-A83D-2191B82F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4D806-D47A-4EE8-8BF1-6B2AF0AC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5C16E-C6B3-4A87-973B-93E75374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78B9E-9D83-4437-8506-4BCE8041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78A9-8A96-4B03-ABF5-46BF4DC4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C4849-B0C4-4BB1-8568-86913FA9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099A4-F8FB-478E-8EF6-C6DA70FB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6F637-5DD9-45A9-A920-94DCC96E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5CA23-E56D-46C9-BFCD-3D99D1B0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E2E14-3BC8-4B12-A333-17199D1A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7467-C944-4CEA-9382-D1433BC8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6D81-7EC4-4DF3-9E9A-9924E64D733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1785-4102-48BB-9FE7-76462177572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82F0-CEF8-4381-8259-E4FCD11F2FF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BEFD-6D31-41D4-A450-E21C65441FF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0DCB-EFEF-4916-B293-642718B9B48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E93D-AAF8-4852-956E-44FD841911A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851F-B1ED-4A4B-B7AC-F541A573B3A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zFO7Wo7ZCE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enstrual Cyc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3800520" cy="3743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http://www.ovulation-calculator.com/files/cycleimage.gif"/>
          <p:cNvPicPr/>
          <p:nvPr/>
        </p:nvPicPr>
        <p:blipFill>
          <a:blip r:embed="rId2"/>
          <a:stretch/>
        </p:blipFill>
        <p:spPr>
          <a:xfrm>
            <a:off x="1066680" y="4038480"/>
            <a:ext cx="381024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Cyc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rongly linked to the endocrine system (hormone based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ypically takes 28 days to cycle through 4 pha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llicul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ul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ute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nstru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rmones raise and fa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0" descr="menst1"/>
          <p:cNvPicPr/>
          <p:nvPr/>
        </p:nvPicPr>
        <p:blipFill>
          <a:blip r:embed="rId1"/>
          <a:stretch/>
        </p:blipFill>
        <p:spPr>
          <a:xfrm>
            <a:off x="1523880" y="1523880"/>
            <a:ext cx="7359840" cy="48308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2"/>
          <p:cNvSpPr/>
          <p:nvPr/>
        </p:nvSpPr>
        <p:spPr>
          <a:xfrm>
            <a:off x="4572000" y="1219320"/>
            <a:ext cx="13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v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1"/>
          <p:cNvSpPr/>
          <p:nvPr/>
        </p:nvSpPr>
        <p:spPr>
          <a:xfrm>
            <a:off x="5181480" y="1638360"/>
            <a:ext cx="0" cy="5219640"/>
          </a:xfrm>
          <a:prstGeom prst="line">
            <a:avLst/>
          </a:prstGeom>
          <a:ln w="255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ollicula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gins when estrogen levels are lo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terior pituitary secretes FSH and LH, stimulation follicle to develo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ells around egg enlarge, releasing estrog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causes this uterine lining to thicke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vul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H and FSH still being released, for another 3-4 day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llicle ruptures,  releasing ova into the Fallopian tub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ute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w empty follicle changes to a yellow colour, becomes corpus luteu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inues to secrete estrogen, but now beings to release progestero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gesterone further develops uterine li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pregnant, embryo will release hormones to preserve corpus luteu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enstru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Menstru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no embryo, the corpus luteum begins to disinteg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gesterone levels drop, uterine lining detaches, menstruation can beg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issue, blood, unfertilized egg all discharg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 take from 3-7 day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915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821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16:45:52Z</dcterms:created>
  <dc:creator>ED18</dc:creator>
  <dc:description/>
  <dc:language>en-US</dc:language>
  <cp:lastModifiedBy>ED18</cp:lastModifiedBy>
  <dcterms:modified xsi:type="dcterms:W3CDTF">2012-05-28T10:33:43Z</dcterms:modified>
  <cp:revision>6</cp:revision>
  <dc:subject/>
  <dc:title>Menstrual Cycle</dc:title>
</cp:coreProperties>
</file>